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D0B7-1B13-4C72-AFCC-CAF994C7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are more stable tha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absorbed (to break bonds) than released (to form bo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energy absor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more stable than react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le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t 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are more stable tha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absorbed (to break bonds) than released (to form bo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energy absor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hemical reactions, entropy increases when disorder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at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octortee.com/dsu/tiftickjian/bio100/enzy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hat-when-how.com/enzyme-mechanisms/illustrative-examples-a-a-chymotrypsin-part-1-enzyme-mechanism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amyl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more stable than react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le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t 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07A-D8E7-4C9D-B1FA-AF509608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9CA-30B6-4BFB-A011-AB3E21B5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0E0-F3C2-497D-B7E0-53A65C0F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0FC-A6C2-4D40-9548-A64EB512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3D1-A05B-4976-A15D-0C9EDF31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871-609D-4A4B-B5FF-138F3AD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87F-CAE9-4AAC-8F5F-87F52F9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EEB-1FE9-4250-92C7-D35F6B2C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A3A-D8C7-46BC-92A5-6774FEC0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4D8-F9F8-47A3-B63C-EA4F07B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87C-C20B-46C6-A77F-C5048E0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26C-FC8A-4EA4-A87C-710D538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D87-24B8-448F-B3BD-DC9988D4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 &amp;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9760" y="1994040"/>
            <a:ext cx="6210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p.130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alculations of the sample problems in the tutori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t (Enthalpy)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) is the heat content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 of re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the overall heat change of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thermic: 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∆H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0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: ∆H po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9760" y="1994040"/>
            <a:ext cx="6210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or not a reaction occurs spontaneously depends not only on enthalpy change (∆H), but also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energy conversion, some of the useful energy in the system becomes unusable, and increas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) is a measure of the degre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emical and physical process involves a change in the entropy of the system (∆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--&gt; liquid/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--&gt;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reactant molecules --&gt; more product molecu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molecules --&gt; simple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es move from area of high concentration to area of low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1828800"/>
          <a:ext cx="7086600" cy="4627440"/>
        </p:xfrm>
        <a:graphic>
          <a:graphicData uri="http://schemas.openxmlformats.org/drawingml/2006/table">
            <a:tbl>
              <a:tblPr/>
              <a:tblGrid>
                <a:gridCol w="1981440"/>
                <a:gridCol w="2514600"/>
                <a:gridCol w="2590560"/>
              </a:tblGrid>
              <a:tr h="13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thermi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avoured by 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ther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t favoured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avour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spontane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low T’s; spontaneous at high T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ot favour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high T’s; spontanteous at low T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;  always require net input of E to occ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etabo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ll reactions in a cell o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bol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bol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hat is available to do work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eaction at temperature T, the change in free energy, ∆G is given by the equation: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5715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lt;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is spontane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goni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gt;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is not spontaneous (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gonic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=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 is at equilibrium and there is no net cha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ecomposi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-&gt;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H = +484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 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n-spon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is increasin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emperature is high enough, reaction will proceed.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: Energy Currency of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use the energy carrier adenosine triphosphate (ATP) for almost all E-requiring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1981080"/>
            <a:ext cx="600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55760" y="1981080"/>
            <a:ext cx="64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563920"/>
            <a:ext cx="7772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cells use AT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use other energy-rich molecules di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manageable amount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ble to couple with many different endergonic reactions (“univers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compared to othe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le in singl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organisms must obtain, store, and use energy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apac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fer of energy from one body or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ossessed by mov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E, mechanical E, electrical 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ored energy that an object poss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tional potential E, chemical potential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the universe can be converted or transformed, but not created or destr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photosynthesis: conversion of light E to chemical potential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broken           (E absorb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formed            (E rele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d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rength/stability of a covalent bond (kJ/m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how much E is released when the bond i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C 346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H 411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Table 1 on page 1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energy required to break bonds in reactants and start the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otential E during the transition state - the potential E of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reduce the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hemical reactions (see 3.3 in text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0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37:05Z</dcterms:created>
  <dc:creator>rubina khan</dc:creator>
  <dc:description/>
  <dc:language>en-US</dc:language>
  <cp:lastModifiedBy>rubina khan</cp:lastModifiedBy>
  <cp:lastPrinted>2010-04-22T10:04:17Z</cp:lastPrinted>
  <dcterms:modified xsi:type="dcterms:W3CDTF">2012-03-19T20:17:41Z</dcterms:modified>
  <cp:revision>149</cp:revision>
  <dc:subject/>
  <dc:title>Introduction to Metabolism</dc:title>
</cp:coreProperties>
</file>